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EC9-E681-43A9-8A0A-31CBB59D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D619-6E25-491E-9F6B-8E64CC91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A5BA-AD9D-4C3D-B30D-934011B3E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5B4-D1A5-458C-9DAA-59E91955C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25C8-B8D2-438B-9BE8-8E691191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13F-74B7-470F-819E-C2DF9FEB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E2E2-E82F-4A0E-B7BB-3953DC0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CC30-1FD8-4F86-85FF-5176E197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FDE-10AE-4D6E-BDF0-3CAE44AD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73B2-3E91-492C-925F-ED189260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6463-A4EF-43D5-8D84-54ACB6F0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0898-A7AE-400D-A8B4-B5F2F627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FC1F-18CB-471E-941A-F7E0F122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82E2-B174-4B77-86EE-186277AA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5857-0BDB-40C3-88D8-CB38B43C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52C-952D-43ED-A09E-14436A47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9CCE-7F1D-4B52-9C85-7D78C89B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FF14-0EBC-45E2-8FB1-59DDD3B7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312-1189-4C45-A1D5-7035F58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AC3-49C5-4DA9-882B-3C88916F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528-D1C2-4B70-9717-8DB96EE5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702-BD41-473F-8C9C-F4DE0FE6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0A0-D319-4E4B-BFB6-870D4AA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6E9-5F23-48E0-8DE9-5420BFE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01A9-51FC-4A7C-B9A9-BB8A491F29A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E9D-C250-45BE-857A-531B74FA172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Earwig Factory"/>
              </a:rPr>
              <a:t>Junior Class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934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pee"/>
              </a:rPr>
              <a:t>Purpose </a:t>
            </a:r>
            <a:r>
              <a:rPr b="1" lang="en-US" sz="4400" spc="-1" strike="noStrike">
                <a:solidFill>
                  <a:srgbClr val="000000"/>
                </a:solidFill>
                <a:latin typeface="Boopee"/>
              </a:rPr>
              <a:t>of Advisory Peri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57640" y="0"/>
            <a:ext cx="408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162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lue Highway Linocut"/>
              </a:rPr>
              <a:t>What is the purpose of advisory period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rovide general academic, financial, college and career information and guidance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ach grade level has a specific curriculum designed to meet the needs of that particular group.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Junior Focu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Jokerman"/>
              </a:rPr>
              <a:t>PERSONAL FINA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e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Respons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dit Ca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v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dit Un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ncial A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68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5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Jokerman"/>
              </a:rPr>
              <a:t>Junior Focus Continu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eer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ésumé buil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ege Prepa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Sear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larship Applica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e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/ACT Pr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43400" y="2629080"/>
            <a:ext cx="42292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21:15:10Z</dcterms:created>
  <dc:creator>Tech</dc:creator>
  <dc:description/>
  <dc:language>en-US</dc:language>
  <cp:lastModifiedBy>ASD</cp:lastModifiedBy>
  <dcterms:modified xsi:type="dcterms:W3CDTF">2011-05-31T20:07:34Z</dcterms:modified>
  <cp:revision>12</cp:revision>
  <dc:subject/>
  <dc:title>Sophomore Class </dc:title>
</cp:coreProperties>
</file>